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90562-D698-4B5B-8707-6D2941B49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71B18-A581-46B1-BB52-AC9506021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C4320-41B2-462D-BE5E-E92723D7F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EF833-7F0A-4427-91DA-50601057C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2E591-B412-4CD0-B5BB-39A8E0552C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FAB5F-C043-4D07-92CB-B1F4890F7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B42F8-5AA3-4439-8979-CD57A5F40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D2CE0-A21B-4F2A-BB10-92B336A0E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CF706-FAE8-462F-9E05-ABC32FC72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9E099-84DE-4F17-BCA6-D0DDEC871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79A25-9D30-4EB4-9E71-4F94ABE87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D4A24-5580-4BF0-8628-C82422ADB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72A24-5A38-44BC-B965-114F49EEE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28A99-257F-4803-833A-E1FD652E4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67C2C-AC01-4C13-BEF3-7A05B5B0D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B0D462-CB17-4E5C-A131-F0D6F6BA3F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E34C72-1C27-4689-BA1E-4F2231CC53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03C399-5FB1-4764-A6AA-2B671F3888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78ECF6-521C-475E-BE6D-F5D65485C8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0BE8CE-656B-4B70-BFAD-05FAD8552A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C03D60-9950-431E-971C-CC05B865DD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C8AD98-7E1E-4454-8382-24E64195E2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72E02-6B12-49FA-8D6C-2D1EACE31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A351BB-FB95-4DA0-AC64-D7D15B1244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E07B43-90F6-425F-913D-6DF531627A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BAE6B8-9DD5-4703-BF47-C467F39B05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928C99-5D2C-47C9-B152-369ED6DC17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F75119-5A93-4021-9E0A-11E2004F2B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7E4B33-49E0-4905-BE19-5AEB481139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3758B7-00A5-49C6-BA44-8B208E1619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02F6A6-4359-459F-B309-D38A27F27F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0B6890-71E9-4A6A-A668-50F3DC57A0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54B819-2A78-416B-9067-305FFCBAE9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18A3B-60B8-4E10-B6A4-A93666A45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3457BA-F030-419A-B296-49BB9FD3FD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7C40AC-9B29-49DE-B12D-B72F2AEDF5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384811-CCD5-4162-86BB-963059AF9B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746433-1D0B-48DF-A75D-F7CF6DD3D6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D75B4D-9B1D-4A6B-96BB-B897F90C53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CB92ED-AFD9-4A8A-8524-7C97041F02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DF8C3B-83A0-4C2F-A1E8-0ACC3573A4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7735BB-6B2B-497D-B05E-291108B89B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A8F6DE-DFD4-4DD4-9D8B-8844211B55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E2355-F1A3-4BBC-BF33-403EDC7CC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46753-0BEF-4A9C-9F0D-95F8A496B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2FE7E-95E4-4CB3-B068-55BC50578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1C0DF-308D-4CE5-B448-96638DC2A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8A883-E63C-4532-8B63-1EBC2872DC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81E09-BB39-42CC-912E-0BBAD790EB0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A049-177E-470B-B69A-EBD54A9548B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76AA4-2A17-4001-936D-19E2E79ACF56}"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B78A3-4C88-4DB8-BD4A-80A3308A83E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365120"/>
            <a:ext cx="830880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School Curriculum in an Era of Standards and Accountability</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e have mandated time frames for elementary are --</a:t>
            </a:r>
            <a:endParaRPr b="0" lang="en-US" sz="2000" spc="-1" strike="noStrike">
              <a:solidFill>
                <a:srgbClr val="000000"/>
              </a:solidFill>
              <a:latin typeface="Constantia"/>
            </a:endParaRPr>
          </a:p>
          <a:p>
            <a:pPr lvl="1" marL="588240" indent="-2260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90 minutes of reading daily (cannot include independent reading time unless it is a station, must be uninterrupted, can include word work (spelling))</a:t>
            </a:r>
            <a:endParaRPr b="0" lang="en-US" sz="1900" spc="-1" strike="noStrike">
              <a:solidFill>
                <a:srgbClr val="000000"/>
              </a:solidFill>
              <a:latin typeface="Constantia"/>
            </a:endParaRPr>
          </a:p>
          <a:p>
            <a:pPr lvl="1" marL="588240" indent="-2260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inimum of 45 minutes of language arts (writing and grammar) daily</a:t>
            </a:r>
            <a:endParaRPr b="0" lang="en-US" sz="1900" spc="-1" strike="noStrike">
              <a:solidFill>
                <a:srgbClr val="000000"/>
              </a:solidFill>
              <a:latin typeface="Constantia"/>
            </a:endParaRPr>
          </a:p>
          <a:p>
            <a:pPr lvl="1" marL="588240" indent="-2260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inimum of 180 minutes of science weekly</a:t>
            </a:r>
            <a:endParaRPr b="0" lang="en-US" sz="1900" spc="-1" strike="noStrike">
              <a:solidFill>
                <a:srgbClr val="000000"/>
              </a:solidFill>
              <a:latin typeface="Constantia"/>
            </a:endParaRPr>
          </a:p>
          <a:p>
            <a:pPr lvl="1" marL="588240" indent="-2260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inimum of 120 minutes of social studies weekly </a:t>
            </a:r>
            <a:endParaRPr b="0" lang="en-US" sz="1900" spc="-1" strike="noStrike">
              <a:solidFill>
                <a:srgbClr val="000000"/>
              </a:solidFill>
              <a:latin typeface="Constantia"/>
            </a:endParaRPr>
          </a:p>
          <a:p>
            <a:pPr lvl="1" marL="588240" indent="-2260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inimum of 150 minutes of p.e. weekly </a:t>
            </a:r>
            <a:endParaRPr b="0" lang="en-US" sz="1900" spc="-1" strike="noStrike">
              <a:solidFill>
                <a:srgbClr val="000000"/>
              </a:solidFill>
              <a:latin typeface="Constantia"/>
            </a:endParaRPr>
          </a:p>
          <a:p>
            <a:pPr lvl="1" marL="588240" indent="-2260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Don’t forget lunch– most elementary students get 25 minutes for lunch.</a:t>
            </a:r>
            <a:endParaRPr b="0" lang="en-US" sz="1900" spc="-1" strike="noStrike">
              <a:solidFill>
                <a:srgbClr val="000000"/>
              </a:solidFill>
              <a:latin typeface="Constantia"/>
            </a:endParaRPr>
          </a:p>
          <a:p>
            <a:pPr lvl="1" marL="588240" indent="-226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 </a:t>
            </a:r>
            <a:endParaRPr b="0" lang="en-US" sz="1900" spc="-1" strike="noStrike">
              <a:solidFill>
                <a:srgbClr val="000000"/>
              </a:solidFill>
              <a:latin typeface="Constantia"/>
            </a:endParaRPr>
          </a:p>
          <a:p>
            <a:pPr lvl="1" marL="588240" indent="-2260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ost schools, per the School Performance Plan, also require independent reading time not included in the 90 minute reading block.</a:t>
            </a:r>
            <a:endParaRPr b="0" lang="en-US" sz="1900" spc="-1" strike="noStrike">
              <a:solidFill>
                <a:srgbClr val="000000"/>
              </a:solidFill>
              <a:latin typeface="Constantia"/>
            </a:endParaRPr>
          </a:p>
          <a:p>
            <a:pPr lvl="1" marL="588240" indent="-2260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 scheduling is a NIGHTMARE– especially when planning for pullouts (speech, language, ESE, remediation, Title 1) or when classes rotate. Reading remediation must be IN ADDITION to the 90 minute block. </a:t>
            </a:r>
            <a:endParaRPr b="0" lang="en-US" sz="1900" spc="-1" strike="noStrike">
              <a:solidFill>
                <a:srgbClr val="000000"/>
              </a:solidFill>
              <a:latin typeface="Constantia"/>
            </a:endParaRPr>
          </a:p>
          <a:p>
            <a:pPr lvl="1" marL="588240" indent="-2260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egrated Curriculum</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is also called “interdisciplinary curriculum”</a:t>
            </a:r>
            <a:endParaRPr b="0" lang="en-US" sz="2400" spc="-1" strike="noStrike">
              <a:solidFill>
                <a:srgbClr val="000000"/>
              </a:solidFill>
              <a:latin typeface="Constantia"/>
            </a:endParaRPr>
          </a:p>
          <a:p>
            <a:pPr marL="267120" indent="-267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nects all areas of the curriculum together</a:t>
            </a:r>
            <a:endParaRPr b="0" lang="en-US" sz="24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or example… let’s say you’re studying  plants. </a:t>
            </a:r>
            <a:endParaRPr b="0" lang="en-US" sz="2200" spc="-1" strike="noStrike">
              <a:solidFill>
                <a:srgbClr val="000000"/>
              </a:solidFill>
              <a:latin typeface="Constantia"/>
            </a:endParaRPr>
          </a:p>
          <a:p>
            <a:pPr lvl="1" marL="626760" indent="-240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 reading, read </a:t>
            </a:r>
            <a:r>
              <a:rPr b="0" lang="en-US" sz="2200" spc="-1" strike="noStrike" u="sng">
                <a:solidFill>
                  <a:srgbClr val="000000"/>
                </a:solidFill>
                <a:uFillTx/>
                <a:latin typeface="Constantia"/>
              </a:rPr>
              <a:t>Plantzilla </a:t>
            </a:r>
            <a:r>
              <a:rPr b="0" lang="en-US" sz="2200" spc="-1" strike="noStrike">
                <a:solidFill>
                  <a:srgbClr val="000000"/>
                </a:solidFill>
                <a:latin typeface="Constantia"/>
              </a:rPr>
              <a:t>as your fiction piece and read nonfiction materials about plants for your nonfiction</a:t>
            </a:r>
            <a:endParaRPr b="0" lang="en-US" sz="2200" spc="-1" strike="noStrike">
              <a:solidFill>
                <a:srgbClr val="000000"/>
              </a:solidFill>
              <a:latin typeface="Constantia"/>
            </a:endParaRPr>
          </a:p>
          <a:p>
            <a:pPr lvl="1" marL="626760" indent="-240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 writing, work on letter writing (like in </a:t>
            </a:r>
            <a:r>
              <a:rPr b="0" lang="en-US" sz="2200" spc="-1" strike="noStrike" u="sng">
                <a:solidFill>
                  <a:srgbClr val="000000"/>
                </a:solidFill>
                <a:uFillTx/>
                <a:latin typeface="Constantia"/>
              </a:rPr>
              <a:t>Plantzilla )</a:t>
            </a:r>
            <a:endParaRPr b="0" lang="en-US" sz="2200" spc="-1" strike="noStrike">
              <a:solidFill>
                <a:srgbClr val="000000"/>
              </a:solidFill>
              <a:latin typeface="Constantia"/>
            </a:endParaRPr>
          </a:p>
          <a:p>
            <a:pPr lvl="1" marL="626760" indent="-240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 science, study plants, plant parts, needs of plants, do experiments</a:t>
            </a:r>
            <a:endParaRPr b="0" lang="en-US" sz="2200" spc="-1" strike="noStrike">
              <a:solidFill>
                <a:srgbClr val="000000"/>
              </a:solidFill>
              <a:latin typeface="Constantia"/>
            </a:endParaRPr>
          </a:p>
          <a:p>
            <a:pPr lvl="1" marL="626760" indent="-240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 math, graph results from you plant experiments</a:t>
            </a:r>
            <a:endParaRPr b="0" lang="en-US" sz="2200" spc="-1" strike="noStrike">
              <a:solidFill>
                <a:srgbClr val="000000"/>
              </a:solidFill>
              <a:latin typeface="Constantia"/>
            </a:endParaRPr>
          </a:p>
          <a:p>
            <a:pPr lvl="1" marL="626760" indent="-240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 social studies, work on mapping skills focusing on types of plants. If you are studying states, focus on state plants.</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egrating in the middle/high schools</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grating curriculum gets harder as students get older for several reaso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asses aren’t self-contained anymor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achers have to work / plan together</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on’t have same planning schedules</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ndards get more difficult to alig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are on different tracks– not all in same class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y is integrating important?</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artmentalizing the curriculum detracts from learning. Integrating curriculum, however, demonstrates for students how concepts relat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grating allows for repetition of skills and concepts that help many students retain the information.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grating improves achievement score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s the point?</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we integrate the curriculum, students hear and see the content material repeatedly. They begin to make the connections and better retain the information.</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blems with integrated curriculum:</a:t>
            </a:r>
            <a:endParaRPr b="0" lang="en-US" sz="24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f you change classes, integrating requires meetings and agreement (collaboration) with other teachers</a:t>
            </a:r>
            <a:endParaRPr b="0" lang="en-US" sz="22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quires a lot of time and extensive planning</a:t>
            </a:r>
            <a:endParaRPr b="0" lang="en-US" sz="22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quires deep understanding of concepts and curriculum / standards requirements in every subject area</a:t>
            </a:r>
            <a:endParaRPr b="0" lang="en-US" sz="22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20280" indent="-2383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orces that Influence Curriculum</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ndards and Accountabil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ederal Government</a:t>
            </a:r>
            <a:endParaRPr b="0" lang="en-US" sz="26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No Child Left Behind (NCLB) Act of 2001</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ndividual Disabilities Education Act (IDEA) of 1975</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National Defense Education Act of 1958</a:t>
            </a:r>
            <a:endParaRPr b="0" lang="en-US" sz="21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xtbooks (remember previous discuss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ilosophy and Teacher Professionalis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urriculum Controversy</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a:t>
            </a:r>
            <a:r>
              <a:rPr b="0" lang="en-US" sz="2600" spc="-1" strike="noStrike" baseline="30000">
                <a:solidFill>
                  <a:srgbClr val="000000"/>
                </a:solidFill>
                <a:latin typeface="Constantia"/>
              </a:rPr>
              <a:t>st</a:t>
            </a:r>
            <a:r>
              <a:rPr b="0" lang="en-US" sz="2600" spc="-1" strike="noStrike">
                <a:solidFill>
                  <a:srgbClr val="000000"/>
                </a:solidFill>
                <a:latin typeface="Constantia"/>
              </a:rPr>
              <a:t> Century Skills</a:t>
            </a:r>
            <a:endParaRPr b="0" lang="en-US" sz="2600" spc="-1" strike="noStrike">
              <a:solidFill>
                <a:srgbClr val="000000"/>
              </a:solidFill>
              <a:latin typeface="Constantia"/>
            </a:endParaRPr>
          </a:p>
          <a:p>
            <a:pPr lvl="1" marL="639720" indent="-272880">
              <a:spcBef>
                <a:spcPts val="601"/>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vement to promote global awareness, civic literacy, critical thinking, communication skills, and technology expertise. </a:t>
            </a:r>
            <a:endParaRPr b="0" lang="en-US" sz="2400" spc="-1" strike="noStrike">
              <a:solidFill>
                <a:srgbClr val="000000"/>
              </a:solidFill>
              <a:latin typeface="Constantia"/>
            </a:endParaRPr>
          </a:p>
          <a:p>
            <a:pPr lvl="1" marL="639720" indent="-272880">
              <a:spcBef>
                <a:spcPts val="601"/>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es not just focus on the “basics” anymore.</a:t>
            </a:r>
            <a:endParaRPr b="0" lang="en-US" sz="2400" spc="-1" strike="noStrike">
              <a:solidFill>
                <a:srgbClr val="000000"/>
              </a:solidFill>
              <a:latin typeface="Constantia"/>
            </a:endParaRPr>
          </a:p>
          <a:p>
            <a:pPr lvl="1" marL="639720" indent="-272880">
              <a:spcBef>
                <a:spcPts val="601"/>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researchers think this movement is geared only toward middle and upper class learners and those who will go into professional careers; overlooks the manual worker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x Education</a:t>
            </a:r>
            <a:endParaRPr b="0" lang="en-US" sz="26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Y say sex ed should not be part of school; however, when the statistics are what they are…</a:t>
            </a:r>
            <a:endParaRPr b="0" lang="en-US" sz="2400" spc="-1" strike="noStrike">
              <a:solidFill>
                <a:srgbClr val="000000"/>
              </a:solidFill>
              <a:latin typeface="Constantia"/>
            </a:endParaRPr>
          </a:p>
          <a:p>
            <a:pPr lvl="2" marL="822960" indent="-2214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n 2001, nearly ½ of teens were sexually active by the end of high school; nearly 1 in 10 were active by age 13</a:t>
            </a:r>
            <a:endParaRPr b="0" lang="en-US" sz="2100" spc="-1" strike="noStrike">
              <a:solidFill>
                <a:srgbClr val="000000"/>
              </a:solidFill>
              <a:latin typeface="Constantia"/>
            </a:endParaRPr>
          </a:p>
          <a:p>
            <a:pPr lvl="2" marL="822960" indent="-2214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lmost 13% of 10</a:t>
            </a:r>
            <a:r>
              <a:rPr b="0" lang="en-US" sz="2100" spc="-1" strike="noStrike" baseline="30000">
                <a:solidFill>
                  <a:srgbClr val="000000"/>
                </a:solidFill>
                <a:latin typeface="Constantia"/>
              </a:rPr>
              <a:t>th</a:t>
            </a:r>
            <a:r>
              <a:rPr b="0" lang="en-US" sz="2100" spc="-1" strike="noStrike">
                <a:solidFill>
                  <a:srgbClr val="000000"/>
                </a:solidFill>
                <a:latin typeface="Constantia"/>
              </a:rPr>
              <a:t> grades said they had four or more sex partners </a:t>
            </a:r>
            <a:endParaRPr b="0" lang="en-US" sz="2100" spc="-1" strike="noStrike">
              <a:solidFill>
                <a:srgbClr val="000000"/>
              </a:solidFill>
              <a:latin typeface="Constantia"/>
            </a:endParaRPr>
          </a:p>
          <a:p>
            <a:pPr lvl="2" marL="822960" indent="-2214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verage age of “first intercourse” dropped from 19 to 15 (1943 to 1999)</a:t>
            </a:r>
            <a:endParaRPr b="0" lang="en-US" sz="2100" spc="-1" strike="noStrike">
              <a:solidFill>
                <a:srgbClr val="000000"/>
              </a:solidFill>
              <a:latin typeface="Constantia"/>
            </a:endParaRPr>
          </a:p>
          <a:p>
            <a:pPr lvl="2" marL="822960" indent="-2214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US has the highest rate of teenage pregnancy and births in the Western world</a:t>
            </a:r>
            <a:endParaRPr b="0" lang="en-US" sz="2100" spc="-1" strike="noStrike">
              <a:solidFill>
                <a:srgbClr val="000000"/>
              </a:solidFill>
              <a:latin typeface="Constantia"/>
            </a:endParaRPr>
          </a:p>
          <a:p>
            <a:pPr lvl="2" marL="822960" indent="-2214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80% of teenagers who become pregnant are unmarried; 57% of teenage mothers keep their babies</a:t>
            </a:r>
            <a:endParaRPr b="0" lang="en-US" sz="21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me argue that schools have both the right and responsibility to ensure students have access to the information; court cases have upheld this belief.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rents DO have the right to keep their children from this material.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cording to polls, 93% of high school parents and 95% of middle school parents want their children to have sex education.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me want nonsegregated group education; others want segregated.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ose who object to sex education in schools usually site religious reasons and typically support an “abstinence only” approach. </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V is helping, at least according to polls done of middle and high school students. Shows like “Secret Life of American Teenager” show the many problems that arise when sex is part of the equation. This show, and movies like </a:t>
            </a:r>
            <a:r>
              <a:rPr b="0" lang="en-US" sz="2600" spc="-1" strike="noStrike" u="sng">
                <a:solidFill>
                  <a:srgbClr val="000000"/>
                </a:solidFill>
                <a:uFillTx/>
                <a:latin typeface="Constantia"/>
              </a:rPr>
              <a:t>Juno </a:t>
            </a:r>
            <a:r>
              <a:rPr b="0" lang="en-US" sz="2600" spc="-1" strike="noStrike">
                <a:solidFill>
                  <a:srgbClr val="000000"/>
                </a:solidFill>
                <a:latin typeface="Constantia"/>
              </a:rPr>
              <a:t>help students see that being a teenage mother isn’t glamorou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 Scenario</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t’s look at the scenario on page 32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preparation does Suzanne have to d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57200" y="685440"/>
            <a:ext cx="8229600" cy="56386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ral and character education is also controversial (see pgs. 339-340)</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lligent Design (vs Big Bang / evolution)- Many call for “equal time” of both theories, at a minimum.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ensorship- the practice of prohibiting the use of “objectionable” materials.</a:t>
            </a:r>
            <a:endParaRPr b="0" lang="en-US" sz="26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Diary of Anne Frank</a:t>
            </a:r>
            <a:r>
              <a:rPr b="0" lang="en-US" sz="2400" spc="-1" strike="noStrike">
                <a:solidFill>
                  <a:srgbClr val="000000"/>
                </a:solidFill>
                <a:latin typeface="Constantia"/>
              </a:rPr>
              <a:t>; </a:t>
            </a:r>
            <a:r>
              <a:rPr b="0" lang="en-US" sz="2400" spc="-1" strike="noStrike" u="sng">
                <a:solidFill>
                  <a:srgbClr val="000000"/>
                </a:solidFill>
                <a:uFillTx/>
                <a:latin typeface="Constantia"/>
              </a:rPr>
              <a:t>Of Mice and Men</a:t>
            </a:r>
            <a:r>
              <a:rPr b="0" lang="en-US" sz="2400" spc="-1" strike="noStrike">
                <a:solidFill>
                  <a:srgbClr val="000000"/>
                </a:solidFill>
                <a:latin typeface="Constantia"/>
              </a:rPr>
              <a:t>; </a:t>
            </a:r>
            <a:r>
              <a:rPr b="0" lang="en-US" sz="2400" spc="-1" strike="noStrike" u="sng">
                <a:solidFill>
                  <a:srgbClr val="000000"/>
                </a:solidFill>
                <a:uFillTx/>
                <a:latin typeface="Constantia"/>
              </a:rPr>
              <a:t>To Kill a Mockingbird</a:t>
            </a:r>
            <a:r>
              <a:rPr b="0" lang="en-US" sz="2400" spc="-1" strike="noStrike">
                <a:solidFill>
                  <a:srgbClr val="000000"/>
                </a:solidFill>
                <a:latin typeface="Constantia"/>
              </a:rPr>
              <a:t>; </a:t>
            </a:r>
            <a:r>
              <a:rPr b="0" lang="en-US" sz="2400" spc="-1" strike="noStrike" u="sng">
                <a:solidFill>
                  <a:srgbClr val="000000"/>
                </a:solidFill>
                <a:uFillTx/>
                <a:latin typeface="Constantia"/>
              </a:rPr>
              <a:t>The Adventures of Huckleberry Finn</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question is how much control should a parent have over his/her child’s education? Then there is also the question of professional autonomy for educators. </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rnet Censorship</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w much technology use is too much? What rules should be in place to prevent potential problem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Legislature you NEED to know (Professional Exam)</a:t>
            </a:r>
            <a:endParaRPr b="0" lang="en-US" sz="45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e table 11.2 on page 330; these WILL be on your tes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ational Defense Education Ac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onomic Opportunity Ac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ivil Rights Ac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lementary and Secondary Education Ac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ilingual Ac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itle IX</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DEA</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vironmental Education</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s 2000</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CLB</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YE!!!</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is “curriculum”?</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urriculum is commonly defined in the following ways:</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ubject matter taught to students</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course of study; systematic arrangement of courses</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lanned educational experiences offered by a school</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periences students have under the guidance of a school</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cess teachers go through in selecting and organizing learning experiences for their students</a:t>
            </a:r>
            <a:endParaRPr b="0" lang="en-US" sz="2400" spc="-1" strike="noStrike">
              <a:solidFill>
                <a:srgbClr val="000000"/>
              </a:solidFill>
              <a:latin typeface="Constantia"/>
            </a:endParaRPr>
          </a:p>
          <a:p>
            <a:pPr lvl="1" marL="620280" indent="-238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urriculum</a:t>
            </a:r>
            <a:r>
              <a:rPr b="0" lang="en-US" sz="2600" spc="-1" strike="noStrike">
                <a:solidFill>
                  <a:srgbClr val="000000"/>
                </a:solidFill>
                <a:latin typeface="Constantia"/>
              </a:rPr>
              <a:t> is everything teachers teach and students learn in schoo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struction </a:t>
            </a:r>
            <a:r>
              <a:rPr b="0" lang="en-US" sz="2600" spc="-1" strike="noStrike">
                <a:solidFill>
                  <a:srgbClr val="000000"/>
                </a:solidFill>
                <a:latin typeface="Constantia"/>
              </a:rPr>
              <a:t>is the strategies teachers use to help students reach learning goal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4 types of curriculum</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 </a:t>
            </a:r>
            <a:r>
              <a:rPr b="1" lang="en-US" sz="2600" spc="-1" strike="noStrike">
                <a:solidFill>
                  <a:srgbClr val="000000"/>
                </a:solidFill>
                <a:latin typeface="Constantia"/>
              </a:rPr>
              <a:t>Explicit curriculum- </a:t>
            </a:r>
            <a:r>
              <a:rPr b="0" lang="en-US" sz="2600" spc="-1" strike="noStrike">
                <a:solidFill>
                  <a:srgbClr val="000000"/>
                </a:solidFill>
                <a:latin typeface="Constantia"/>
              </a:rPr>
              <a:t>the formal curriculum, the standards, the material found in text books and curriculum guides</a:t>
            </a:r>
            <a:r>
              <a:rPr b="1" lang="en-US" sz="2600" spc="-1" strike="noStrike">
                <a:solidFill>
                  <a:srgbClr val="000000"/>
                </a:solidFill>
                <a:latin typeface="Constantia"/>
              </a:rPr>
              <a: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t’s talk about text books a  minute… Use them strategically.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tudent need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cope</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Quality</a:t>
            </a:r>
            <a:endParaRPr b="0" lang="en-US" sz="21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 </a:t>
            </a:r>
            <a:r>
              <a:rPr b="1" lang="en-US" sz="2600" spc="-1" strike="noStrike">
                <a:solidFill>
                  <a:srgbClr val="000000"/>
                </a:solidFill>
                <a:latin typeface="Constantia"/>
              </a:rPr>
              <a:t>Implicit curriculum</a:t>
            </a:r>
            <a:r>
              <a:rPr b="0" lang="en-US" sz="2600" spc="-1" strike="noStrike">
                <a:solidFill>
                  <a:srgbClr val="000000"/>
                </a:solidFill>
                <a:latin typeface="Constantia"/>
              </a:rPr>
              <a:t>- “hidden” curriculum, the lessons children learn from the nature and organization of the classroom and the way children are treated. These are the types of lessons learned as children observe their parents or their teacher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 </a:t>
            </a:r>
            <a:r>
              <a:rPr b="1" lang="en-US" sz="2600" spc="-1" strike="noStrike">
                <a:solidFill>
                  <a:srgbClr val="000000"/>
                </a:solidFill>
                <a:latin typeface="Constantia"/>
              </a:rPr>
              <a:t>Null Curriculum</a:t>
            </a:r>
            <a:r>
              <a:rPr b="0" lang="en-US" sz="2600" spc="-1" strike="noStrike">
                <a:solidFill>
                  <a:srgbClr val="000000"/>
                </a:solidFill>
                <a:latin typeface="Constantia"/>
              </a:rPr>
              <a:t>- Think “null and void”, the curriculum teachers don’t have time to cover or choose not to cover.</a:t>
            </a:r>
            <a:endParaRPr b="0" lang="en-US" sz="26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achers tend to avoid what makes them feel uncomfortable or what they know little about. The also tend to want to teach about what interests them. </a:t>
            </a:r>
            <a:endParaRPr b="0" lang="en-US" sz="24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xamples: slavery, evolution</a:t>
            </a:r>
            <a:endParaRPr b="0" lang="en-US" sz="2100" spc="-1" strike="noStrike">
              <a:solidFill>
                <a:srgbClr val="000000"/>
              </a:solidFill>
              <a:latin typeface="Constantia"/>
            </a:endParaRPr>
          </a:p>
          <a:p>
            <a:pPr lvl="2" marL="877680" indent="-23616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877680" indent="-23616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877680" indent="-23616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cess- part of the “null” curriculum.  Thoughts? </a:t>
            </a:r>
            <a:endParaRPr b="0" lang="en-US" sz="2100" spc="-1" strike="noStrike">
              <a:solidFill>
                <a:srgbClr val="000000"/>
              </a:solidFill>
              <a:latin typeface="Constantia"/>
            </a:endParaRPr>
          </a:p>
          <a:p>
            <a:pPr lvl="2" marL="877680" indent="-23616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t>
            </a:r>
            <a:r>
              <a:rPr b="0" lang="en-US" sz="2100" spc="-1" strike="noStrike">
                <a:solidFill>
                  <a:srgbClr val="000000"/>
                </a:solidFill>
                <a:latin typeface="Constantia"/>
              </a:rPr>
              <a:t>Time on task”</a:t>
            </a:r>
            <a:endParaRPr b="0" lang="en-US" sz="21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877680" indent="-23616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4. </a:t>
            </a:r>
            <a:r>
              <a:rPr b="1" lang="en-US" sz="2400" spc="-1" strike="noStrike">
                <a:solidFill>
                  <a:srgbClr val="000000"/>
                </a:solidFill>
                <a:latin typeface="Constantia"/>
              </a:rPr>
              <a:t>Extra-curriculum</a:t>
            </a:r>
            <a:r>
              <a:rPr b="0" lang="en-US" sz="2400" spc="-1" strike="noStrike">
                <a:solidFill>
                  <a:srgbClr val="000000"/>
                </a:solidFill>
                <a:latin typeface="Constantia"/>
              </a:rPr>
              <a:t>-learning experiences beyond formal studies; lessons learned through clubs, sports, plays, and other activities that don’t earn academic credit. </a:t>
            </a:r>
            <a:endParaRPr b="0" lang="en-US" sz="2400" spc="-1" strike="noStrike">
              <a:solidFill>
                <a:srgbClr val="000000"/>
              </a:solidFill>
              <a:latin typeface="Constantia"/>
            </a:endParaRPr>
          </a:p>
          <a:p>
            <a:pPr lvl="1" marL="601200" indent="-23112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enefits of participating in “extra-curriculars” include –</a:t>
            </a:r>
            <a:endParaRPr b="0" lang="en-US" sz="2200" spc="-1" strike="noStrike">
              <a:solidFill>
                <a:srgbClr val="000000"/>
              </a:solidFill>
              <a:latin typeface="Constantia"/>
            </a:endParaRPr>
          </a:p>
          <a:p>
            <a:pPr lvl="2" marL="859320" indent="-23112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Higher academic performance</a:t>
            </a:r>
            <a:endParaRPr b="0" lang="en-US" sz="1900" spc="-1" strike="noStrike">
              <a:solidFill>
                <a:srgbClr val="000000"/>
              </a:solidFill>
              <a:latin typeface="Constantia"/>
            </a:endParaRPr>
          </a:p>
          <a:p>
            <a:pPr lvl="2" marL="859320" indent="-23112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Reduced dropout rates</a:t>
            </a:r>
            <a:endParaRPr b="0" lang="en-US" sz="1900" spc="-1" strike="noStrike">
              <a:solidFill>
                <a:srgbClr val="000000"/>
              </a:solidFill>
              <a:latin typeface="Constantia"/>
            </a:endParaRPr>
          </a:p>
          <a:p>
            <a:pPr lvl="2" marL="859320" indent="-23112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Lower rates of substance abuse</a:t>
            </a:r>
            <a:endParaRPr b="0" lang="en-US" sz="1900" spc="-1" strike="noStrike">
              <a:solidFill>
                <a:srgbClr val="000000"/>
              </a:solidFill>
              <a:latin typeface="Constantia"/>
            </a:endParaRPr>
          </a:p>
          <a:p>
            <a:pPr lvl="2" marL="859320" indent="-23112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Less sexual activity</a:t>
            </a:r>
            <a:endParaRPr b="0" lang="en-US" sz="1900" spc="-1" strike="noStrike">
              <a:solidFill>
                <a:srgbClr val="000000"/>
              </a:solidFill>
              <a:latin typeface="Constantia"/>
            </a:endParaRPr>
          </a:p>
          <a:p>
            <a:pPr lvl="2" marL="859320" indent="-23112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Better psychological adjustment (including higher esteem and reduced feelings of social isolation)</a:t>
            </a:r>
            <a:endParaRPr b="0" lang="en-US" sz="1900" spc="-1" strike="noStrike">
              <a:solidFill>
                <a:srgbClr val="000000"/>
              </a:solidFill>
              <a:latin typeface="Constantia"/>
            </a:endParaRPr>
          </a:p>
          <a:p>
            <a:pPr lvl="2" marL="859320" indent="-23112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Reduced rates of delinquent behavior</a:t>
            </a:r>
            <a:endParaRPr b="0" lang="en-US" sz="1900" spc="-1" strike="noStrike">
              <a:solidFill>
                <a:srgbClr val="000000"/>
              </a:solidFill>
              <a:latin typeface="Constantia"/>
            </a:endParaRPr>
          </a:p>
          <a:p>
            <a:pPr lvl="2" marL="859320" indent="-23112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2" marL="859320" indent="-23112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If at all possible, sponsor an extra-curricular activity (stipends, professional development, increased interaction with colleagues, etc)</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mething from the text I want to address…</a:t>
            </a:r>
            <a:endParaRPr b="0" lang="en-US" sz="45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g. 323 shows two schedules, one first grade and one third grade. These are largely misleading. The text also says that “the amount of time a teacher devotes to different content areas is a personal decision.” This is no longer true in the state of Florida… or at least is only partially tru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iddle school/ High school schedules are dictated by the bell schedul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21:47:41Z</dcterms:created>
  <dc:creator>Amy</dc:creator>
  <dc:description/>
  <dc:language>en-US</dc:language>
  <cp:lastModifiedBy>Chris Brown</cp:lastModifiedBy>
  <dcterms:modified xsi:type="dcterms:W3CDTF">2011-02-08T21:55:58Z</dcterms:modified>
  <cp:revision>3</cp:revision>
  <dc:subject/>
  <dc:title>Chapter 10</dc:title>
</cp:coreProperties>
</file>